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40DE2-60EC-48C1-9C37-A2D3D825D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17B7A-0BB4-4405-BE17-8EF6EAC1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2A9A7-3882-4E56-B347-3159E2970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CEF98-B25D-4078-9337-2967BC78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4F6D-1401-47D4-8AF1-DE51B824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FB82-71D0-4DA7-A043-5D4B9E7F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2010-0B00-4829-AD7C-48ED5FBE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7BFB-3348-4F66-89D8-8E12E061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846F-7A6C-405E-A9E4-49AAE9ED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C1EC-BEDA-4464-9878-9318205E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DDD6-4F32-4AB8-B3FC-6A97006E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4D993-3161-44BA-A22D-9983191C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BEBC-5C22-4FD8-8FFC-B06A014D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621A-8B29-4CC5-85DB-F5108E07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386E-A879-467A-90B5-9D82A744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831B-398F-49BF-99D5-1560CF587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C067-410A-4F5C-A547-DDD53F970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C4FB8-F9D1-4A48-9CDA-F96C51E3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93330-CB76-4B98-AC76-2643C9B9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0868C-4DF1-4D8A-8B81-B98EE1E8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968C7-4BC9-4FE3-A4C5-A0F08B33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0252F-E990-4DDB-975F-4A166D12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5D6A7-494F-46EA-AB82-8C730172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5274D-9A11-4D16-967E-77D5FC96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BE50-D581-4B21-A881-90D0D24A2C4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363A-B2E6-4212-AA53-00EC71894D5F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08000" y="191520"/>
            <a:ext cx="8928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72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14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Ранен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във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ръв потънал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с тръни на глав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подсмих Той е станал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хорската мълва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о друго Му остав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свен срам и позор?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ъй - хулен и без слава -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 мил на моя взор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122184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з горест без отрад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ез хулни викове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, Господи, пострад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мойте грехове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Ти Си мой Спасител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мойто място взе -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ето ме просител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 Твоите ноз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105372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лице от радост сияйно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крия си чело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в Твойто в кръв обляно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ободено тело.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Тебе да прославя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, верен Теб докрай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з смърт аз да забравя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Боже мой, не да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8-14T15:08:18Z</dcterms:modified>
  <cp:revision>54</cp:revision>
  <dc:subject/>
  <dc:title>Slide 1</dc:title>
</cp:coreProperties>
</file>